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7D6-3641-4F9B-9B0E-C7BAA36D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F3D-A59B-492B-B4A8-6E7005EE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8B3-02D9-4962-B600-E176CA50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115-50B1-4A33-B65C-E69BF927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E7D-7370-49F4-ADF3-D65E1E01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C64-A461-41FD-92F3-7E3D1C82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A59-36A4-4EFB-812D-EA4C5BB4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467-5A08-4337-B567-4C39C06F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908-DE54-4679-AF91-F25D8129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CDD-1131-403B-9CBF-6FA5718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D30-7CE3-4CB2-BFF6-6717A7EB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8B7-26AB-415A-855A-FD34E26E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75F4-ED55-4F73-803E-810CDEA48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 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886200"/>
            <a:ext cx="843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Symbol"/>
                <a:ea typeface="Symbol"/>
              </a:rPr>
              <a:t>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What is epidemi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Symbol"/>
                <a:ea typeface="Symbol"/>
              </a:rPr>
              <a:t>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verview of epi methodolog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Sydney Beach Users Study 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Introduction to ActivE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THE SYDNEY BEACH USERS STU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91200" y="1736640"/>
            <a:ext cx="797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s the study of health and ill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human or other (e.g., veterinar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pul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523880"/>
            <a:ext cx="8229600" cy="312444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648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733920" cy="5181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3504960" cy="510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41520" y="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111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543800" cy="3783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5029200"/>
            <a:ext cx="30492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981080"/>
            <a:ext cx="99036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543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54840" y="5105520"/>
            <a:ext cx="237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1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2084400"/>
            <a:ext cx="7619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383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8153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3500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7640" y="182880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59092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A CD-ROM MULTIMED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LEARNER-INTERACTIVE COURS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FUNDAMENTALS OF EPIDEM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fa62a"/>
                </a:solidFill>
                <a:latin typeface="Arial"/>
              </a:rPr>
              <a:t>(FOR WINDOWS AND M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6720" y="685800"/>
            <a:ext cx="85446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Initially,  study and control of epide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Now,  much broader in scop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cute and infectious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quality of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ental heal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ccupational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environmental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io-terror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3120" y="167652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WHO DEVELOP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438280"/>
            <a:ext cx="7010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DAVID G. KLEINBAUM- AUTHO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DATA DESCRIPTION (Ithaca, NY)-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MEDIA  TECHNOLO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SPRINGER-VERLAG- PUBLIS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200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Course outline covers topics in most      intro epi texts </a:t>
            </a: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Chapter Topics </a:t>
            </a: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(e.g., Measures of Effect, Confounding)</a:t>
            </a: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 are called “Less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15 Lessons, each with several “Activ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3480" y="1143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HOW ORGANIZ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Video and/or Animated Expo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Narrated Instructional Exposition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Study and/or Multiple-Choice Ques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Interactively-designed Short Quizze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Computer Exercise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Linkage to World Wide We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720" y="1523880"/>
            <a:ext cx="69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LESSON COMPONENTS (“ACTIVITIE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543800" cy="2226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ologic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test hypo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planatory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8c11ae"/>
                </a:solidFill>
                <a:latin typeface="Times New Roman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Variables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8c11ae"/>
                </a:solidFill>
                <a:latin typeface="Times New Roman"/>
              </a:rPr>
              <a:t>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51814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200" y="1676520"/>
            <a:ext cx="7511040" cy="2244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8a4b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estimate disease frequency and time tren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generate etiologic hypotheses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609480"/>
            <a:ext cx="7543800" cy="1191240"/>
          </a:xfrm>
          <a:prstGeom prst="rect">
            <a:avLst/>
          </a:prstGeom>
          <a:solidFill>
            <a:srgbClr val="eeb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56840" y="230040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f6f1"/>
                </a:solidFill>
                <a:latin typeface="Times New Roman"/>
              </a:rPr>
              <a:t>Key Challenges in etiologic re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OLOGIC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ISSUES IN EPI ?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8153280" cy="563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1800" y="3032280"/>
            <a:ext cx="369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 = exposur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c6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8dc6ff"/>
                </a:solidFill>
                <a:latin typeface="Times New Roman"/>
              </a:rPr>
              <a:t> = contro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720" y="2895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11ae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5:28Z</dcterms:modified>
  <cp:revision>103</cp:revision>
  <dc:subject/>
  <dc:title>The Art in the State of the Art</dc:title>
</cp:coreProperties>
</file>